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wmf" ContentType="image/x-wmf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6.jpeg" ContentType="image/jpeg"/>
  <Override PartName="/ppt/media/image10.jpeg" ContentType="image/jpeg"/>
  <Override PartName="/ppt/media/image9.wmf" ContentType="image/x-wmf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9574-48E8-4608-8DC0-6CC775EED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1441-1ACC-4772-A15C-E08551EC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89CC-3DC8-4D5E-B5C5-7B6EBA9BF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1BE7-A822-432A-859B-93D376782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966B-A005-418B-AE62-8133FB0B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D125-5C96-4AD0-8C8B-DF7E90D0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3F9C-2179-4320-A902-5CE278B7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B0F3-B2BE-4538-9FB1-D0EF85A7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27DD-7602-453E-B7A8-7A9BEA88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50D7-525B-4FF3-81EA-20670ACD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FAC5-B84C-4328-A861-F6B82AA3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CEB1-E539-4DEF-9BA9-A76FD30B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F68C-043E-4863-AFF1-CE0F31822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1.dortmund.de/themen/stadtportrait/fotopool/detail.jsp?cid=6476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1.dortmund.de/themen/stadtportrait/fotopool/detail.jsp?cid=6235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1.dortmund.de/themen/stadtportrait/fotopool/detail.jsp?cid=6192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80880"/>
            <a:ext cx="83059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Lars Tata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 University of Dortmund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 Spatial Planning in 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From Steel Town to E-City</a:t>
            </a:r>
            <a:r>
              <a:rPr b="1" lang="en-GB" sz="4000" spc="-1" strike="noStrike">
                <a:solidFill>
                  <a:srgbClr val="000000"/>
                </a:solidFill>
                <a:latin typeface="Impact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tructural Change as a Permanent Challenge - the Case of Dortm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RITICAL Cities Conference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Innovation, Communities and Sustainable Reg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A CRITICAL Dialogue Between Five C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Melbourne, 29 September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welcome%20dortmund" descr=""/>
          <p:cNvPicPr/>
          <p:nvPr/>
        </p:nvPicPr>
        <p:blipFill>
          <a:blip r:embed="rId1"/>
          <a:stretch/>
        </p:blipFill>
        <p:spPr>
          <a:xfrm>
            <a:off x="5715000" y="2133720"/>
            <a:ext cx="29480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0880" y="380880"/>
            <a:ext cx="944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Approaches in the knowledge era </a:t>
            </a:r>
            <a:br>
              <a:rPr sz="3200"/>
            </a:b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he world and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Montreal%201a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3292200"/>
          </a:xfrm>
          <a:prstGeom prst="rect">
            <a:avLst/>
          </a:prstGeom>
          <a:ln w="0">
            <a:noFill/>
          </a:ln>
        </p:spPr>
      </p:pic>
      <p:pic>
        <p:nvPicPr>
          <p:cNvPr id="86" name="Montreal%201b" descr=""/>
          <p:cNvPicPr/>
          <p:nvPr/>
        </p:nvPicPr>
        <p:blipFill>
          <a:blip r:embed="rId2"/>
          <a:stretch/>
        </p:blipFill>
        <p:spPr>
          <a:xfrm>
            <a:off x="4191120" y="2514600"/>
            <a:ext cx="4952880" cy="2482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191120" y="502920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 Narrow"/>
              </a:rPr>
              <a:t>Source: Michaud, Pascale (2003) Montréal, Knowledge 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56386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2133720"/>
            <a:ext cx="1600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3300"/>
                </a:solidFill>
                <a:latin typeface="Arial"/>
              </a:rPr>
              <a:t>Dortmun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1752480"/>
            <a:ext cx="5562720" cy="52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- Increased perception of the importance of culture and a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- Huge public investments (e.g. new concert hall, new public library, museu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- Industrial heritage: Reinterpretation and new use of former steel and coal buildings and spaces (since the 90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- Concentration on flagship projects (“Phoenix Lake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- Careful reorganisation of the public adminis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- Outsourcing of certain, especially, development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- Economic promotion: concentration on certain clusters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(IT, logistics, MEMS, biomedic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- Strong efforts from public and private actors to further develop a networking culture (branch-related events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380880"/>
            <a:ext cx="944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Actual policy approaches</a:t>
            </a: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br>
              <a:rPr sz="3200"/>
            </a:b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Dortm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konz_haus10.8765.200x266" descr="Konzerthaus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380880"/>
            <a:ext cx="2286000" cy="3040200"/>
          </a:xfrm>
          <a:prstGeom prst="rect">
            <a:avLst/>
          </a:prstGeom>
          <a:ln w="0">
            <a:noFill/>
          </a:ln>
        </p:spPr>
      </p:pic>
      <p:pic>
        <p:nvPicPr>
          <p:cNvPr id="93" name="hochofen_phoenix_west.8805.420x560" descr="Hochofen Phönix West"/>
          <p:cNvPicPr/>
          <p:nvPr/>
        </p:nvPicPr>
        <p:blipFill>
          <a:blip r:embed="rId3"/>
          <a:stretch/>
        </p:blipFill>
        <p:spPr>
          <a:xfrm>
            <a:off x="6553080" y="3429000"/>
            <a:ext cx="228600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380880"/>
            <a:ext cx="944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Cluster policy</a:t>
            </a: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universitaet_hbahn.8555.200x149" descr="H-Bahn an der Uni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4343400"/>
            <a:ext cx="2511360" cy="1871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8600" y="914400"/>
            <a:ext cx="48769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Competence field policy” since the 80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Technology Park and Cen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2000: “dortmund-project” (dp) as new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P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Understanding as comprehensive economic development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Goal: up to 70,000 jobs until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Concentration on promising indus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Basic components of the cluster policy of 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tart-up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Company growth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Aggressive company recrui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Enhancing of qualification and training opport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Provision of branch-related infrastructure (ECC, MST-factory, e-port, BioMedCen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ogo%20dortmund-project-freigeschaltet" descr=""/>
          <p:cNvPicPr/>
          <p:nvPr/>
        </p:nvPicPr>
        <p:blipFill>
          <a:blip r:embed="rId3"/>
          <a:stretch/>
        </p:blipFill>
        <p:spPr>
          <a:xfrm>
            <a:off x="5943600" y="1219320"/>
            <a:ext cx="259092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380880"/>
            <a:ext cx="944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Example: MEMS cluster</a:t>
            </a: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320" y="914400"/>
            <a:ext cx="4800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MEMS: Micro-Electronic-Mechanical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24 companies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,600 employees (= one third of Europ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Technical 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Arial"/>
              </a:rPr>
              <a:t>Microtechnology Centre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(incl. clean room and other facilit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Arial"/>
              </a:rPr>
              <a:t>Centre for Modular Interface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tart-up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All micro” (Europe-wide announced founders’ cont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MST-factory as special centre for foun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Further play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IVAM: MEMS company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MEMS-related research instit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914400"/>
            <a:ext cx="4800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5160" indent="-2746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gular nationwide and international MEMS company confer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5160" indent="-2746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5160" indent="-2746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Evolution of the cluster not university-driven; initial point was a company settlement in the early 80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5160" indent="-2746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51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ome facilities and courses at the universities have been recently established to fill this academic gab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(as clear strategic measures of the cluster polic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mst-logo" descr=""/>
          <p:cNvPicPr/>
          <p:nvPr/>
        </p:nvPicPr>
        <p:blipFill>
          <a:blip r:embed="rId1"/>
          <a:stretch/>
        </p:blipFill>
        <p:spPr>
          <a:xfrm>
            <a:off x="5334120" y="5867280"/>
            <a:ext cx="3394080" cy="617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886200" y="426708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5160" indent="-274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51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Ambitious and plausible cluster approach with promising development perspectiv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380880"/>
            <a:ext cx="944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Outlook and challenges</a:t>
            </a: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838080"/>
            <a:ext cx="457200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tabilisation of cluster eff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Promotion/support of other industri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Creation of jobs, especially for low qualified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Enhancing of soft location factors (cultural provision, housing opportunities, flagship projects, e.g. central station as shop m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Upgrading of academic 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Internationalisation of the location as a who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trengthening of the regional dimension (changed attitude towards the Rhine-Ruhr region as metropolis of 10 million people and the potentials of being part of 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kaiserstuhl.8540.200x266" descr="Kokerei Kaiserstuhl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1981080"/>
            <a:ext cx="228600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steeltown%20ecit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48120" y="6583320"/>
            <a:ext cx="60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 Narrow"/>
              </a:rPr>
              <a:t>Source: Wirtschafts- und Beschäftigungsförderung Dortmund (2003) High-Tech at the heart of Eur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523880"/>
            <a:ext cx="426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960:  75,000 employees in coal and ste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980:  43,000 employees in coal and steel 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         half of employees in seconda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2004:  no more employment in coal and ste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&gt; 75 % of employment in tertiary sector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         35,000 people in IT, logistic and MEM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808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From coal and steel to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4724280"/>
            <a:ext cx="33526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290520"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In 40 years from steel an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coal town to a service an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technology loc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(by avoiding social exclus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2412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724280" y="1600200"/>
          <a:ext cx="4067280" cy="222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406728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minister_stein03.8568.420x314" descr="Förderturm der ehemaligen Zeche Minister Stein"/>
          <p:cNvPicPr/>
          <p:nvPr/>
        </p:nvPicPr>
        <p:blipFill>
          <a:blip r:embed="rId3"/>
          <a:stretch/>
        </p:blipFill>
        <p:spPr>
          <a:xfrm>
            <a:off x="5486400" y="4114800"/>
            <a:ext cx="32767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37160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adical change to service and high-t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Formation of innovative and promisi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branches/clu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Change of qualification struc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(from heavy-work to brain-wor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Increased share of employed university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gradu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Increased number of students an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researchers studying/working in the city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3372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3808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Impact"/>
              </a:rPr>
              <a:t>Features of  the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800600"/>
            <a:ext cx="41911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9960" indent="-212760"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Compared to other cities of the Ruhr region development has been higher-than-average, situation is be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371600"/>
            <a:ext cx="411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Problem: new leading industries have not completely replaced the old 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Lack of employment, effect: permanent unemployment rate of 1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hare of economically and socially excluded people gets highe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48006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9960" indent="-212760"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Compared to other German cities of Dortmund’s size the economic status is below a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1143000"/>
            <a:ext cx="8839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968 University of Dortmund is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Technical orien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Unique discip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25,000 stud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969 Institute for Occupational Physiology at the University of Dortm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(Leibniz Research Centre for Working Environment and Human Facto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971 University of Applied Scienc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One of the biggest “Fachhochschulen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Technical orien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9,000 stud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972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itute for Regional and Urban Development of North Rhine-Westphal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972 Institute of Spectrochemistry and Applied Spectroscopy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at the University of Dortm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981 Fraunhofer Institute for Material Flow and Log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80880"/>
            <a:ext cx="944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Change factor KNOWLEDGE </a:t>
            </a:r>
            <a:r>
              <a:rPr b="0" lang="en-GB" sz="1800" spc="-1" strike="noStrike">
                <a:solidFill>
                  <a:srgbClr val="000000"/>
                </a:solidFill>
                <a:latin typeface="Impact"/>
              </a:rPr>
              <a:t>(1/3)</a:t>
            </a:r>
            <a:r>
              <a:rPr b="1" lang="en-GB" sz="3200" spc="-1" strike="noStrike">
                <a:solidFill>
                  <a:srgbClr val="000000"/>
                </a:solidFill>
                <a:latin typeface="Impact"/>
              </a:rPr>
              <a:t> </a:t>
            </a:r>
            <a:br>
              <a:rPr sz="3200"/>
            </a:b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rtmund‘s emergence as knowledge 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9753480" y="-5181480"/>
            <a:ext cx="1950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380880"/>
            <a:ext cx="899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985 Technology Park and Technology Cen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Continuous grow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Technology Park: 230 companies with 8,500 employe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50% in IT, logistics, and M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Others are environmental technology, biomedicine, bioinfor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Technology Centre as nucle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ix buildings, 60 companies, 1,300 job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Technologiepark%20Do%20Zeitverlauf" descr=""/>
          <p:cNvPicPr/>
          <p:nvPr/>
        </p:nvPicPr>
        <p:blipFill>
          <a:blip r:embed="rId1"/>
          <a:stretch/>
        </p:blipFill>
        <p:spPr>
          <a:xfrm>
            <a:off x="685800" y="2500200"/>
            <a:ext cx="7010280" cy="4133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81080" y="6583320"/>
            <a:ext cx="678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 Narrow"/>
              </a:rPr>
              <a:t>Source: Wirtschafts- und Beschäftigungsförderung Dortmund (2003) High-Tech at the heart of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echnoPark%20Do%20Luftbild" descr=""/>
          <p:cNvPicPr/>
          <p:nvPr/>
        </p:nvPicPr>
        <p:blipFill>
          <a:blip r:embed="rId1"/>
          <a:stretch/>
        </p:blipFill>
        <p:spPr>
          <a:xfrm>
            <a:off x="3962520" y="3227400"/>
            <a:ext cx="5181480" cy="3630600"/>
          </a:xfrm>
          <a:prstGeom prst="rect">
            <a:avLst/>
          </a:prstGeom>
          <a:ln w="0">
            <a:noFill/>
          </a:ln>
        </p:spPr>
      </p:pic>
      <p:pic>
        <p:nvPicPr>
          <p:cNvPr id="63" name="Plan%20Uni%20Do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38088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990 International School of Management Dortmund (IS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992 Fraunhofer Institute for Software and Systems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992 Max Planck Institute of Molecular Physiolog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992 “windo”, the Working Committee of the Scientific Institutions of Dortm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997 University of Dortmund joins European Consortium of Innovative Universities (ECIU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2000 IT-Center Dortmu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windo" descr=""/>
          <p:cNvPicPr/>
          <p:nvPr/>
        </p:nvPicPr>
        <p:blipFill>
          <a:blip r:embed="rId1"/>
          <a:stretch/>
        </p:blipFill>
        <p:spPr>
          <a:xfrm>
            <a:off x="457200" y="3733920"/>
            <a:ext cx="3098880" cy="2712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0880" y="647712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 Narrow"/>
              </a:rPr>
              <a:t>Source: http://www.windo.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426708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Today the Dortmun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     knowledge complex is th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     engine of economic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     development in the region</a:t>
            </a: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447920"/>
            <a:ext cx="91440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23880" y="1395360"/>
          <a:ext cx="609768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768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521000" y="1390680"/>
          <a:ext cx="6242040" cy="4064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1000" y="1390680"/>
                    <a:ext cx="62420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Abbildung%20Institute2" descr=""/>
          <p:cNvPicPr/>
          <p:nvPr/>
        </p:nvPicPr>
        <p:blipFill>
          <a:blip r:embed="rId5"/>
          <a:stretch/>
        </p:blipFill>
        <p:spPr>
          <a:xfrm>
            <a:off x="3276720" y="1523880"/>
            <a:ext cx="2976480" cy="3962520"/>
          </a:xfrm>
          <a:prstGeom prst="rect">
            <a:avLst/>
          </a:prstGeom>
          <a:ln w="0">
            <a:noFill/>
          </a:ln>
        </p:spPr>
      </p:pic>
      <p:pic>
        <p:nvPicPr>
          <p:cNvPr id="74" name="Abbildung%20Institut3" descr=""/>
          <p:cNvPicPr/>
          <p:nvPr/>
        </p:nvPicPr>
        <p:blipFill>
          <a:blip r:embed="rId6"/>
          <a:stretch/>
        </p:blipFill>
        <p:spPr>
          <a:xfrm>
            <a:off x="38160" y="1523880"/>
            <a:ext cx="3238560" cy="3962520"/>
          </a:xfrm>
          <a:prstGeom prst="rect">
            <a:avLst/>
          </a:prstGeom>
          <a:ln w="0">
            <a:noFill/>
          </a:ln>
        </p:spPr>
      </p:pic>
      <p:pic>
        <p:nvPicPr>
          <p:cNvPr id="75" name="Abbildung%20Institute" descr=""/>
          <p:cNvPicPr/>
          <p:nvPr/>
        </p:nvPicPr>
        <p:blipFill>
          <a:blip r:embed="rId7"/>
          <a:stretch/>
        </p:blipFill>
        <p:spPr>
          <a:xfrm>
            <a:off x="6248520" y="1523880"/>
            <a:ext cx="2786040" cy="39625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380880"/>
            <a:ext cx="944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Change factor KNOWLEDGE </a:t>
            </a:r>
            <a:r>
              <a:rPr b="0" lang="en-GB" sz="1800" spc="-1" strike="noStrike">
                <a:solidFill>
                  <a:srgbClr val="000000"/>
                </a:solidFill>
                <a:latin typeface="Impact"/>
              </a:rPr>
              <a:t>(2/3)</a:t>
            </a:r>
            <a:r>
              <a:rPr b="1" lang="en-GB" sz="3200" spc="-1" strike="noStrike">
                <a:solidFill>
                  <a:srgbClr val="000000"/>
                </a:solidFill>
                <a:latin typeface="Impact"/>
              </a:rPr>
              <a:t> </a:t>
            </a:r>
            <a:br>
              <a:rPr sz="3200"/>
            </a:b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rtmund knowledge compl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62520" y="1828800"/>
            <a:ext cx="1371600" cy="10666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3429000"/>
            <a:ext cx="1447560" cy="19051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9980000">
            <a:off x="2514600" y="4419360"/>
            <a:ext cx="1022400" cy="16477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334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44880" y="67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Cluster in Dortmund" descr=""/>
          <p:cNvPicPr/>
          <p:nvPr/>
        </p:nvPicPr>
        <p:blipFill>
          <a:blip r:embed="rId1"/>
          <a:stretch/>
        </p:blipFill>
        <p:spPr>
          <a:xfrm>
            <a:off x="1295280" y="1349280"/>
            <a:ext cx="4854600" cy="5508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80880" y="380880"/>
            <a:ext cx="944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Change factor KNOWLEDGE </a:t>
            </a:r>
            <a:r>
              <a:rPr b="0" lang="en-GB" sz="1800" spc="-1" strike="noStrike">
                <a:solidFill>
                  <a:srgbClr val="000000"/>
                </a:solidFill>
                <a:latin typeface="Impact"/>
              </a:rPr>
              <a:t>(3/3)</a:t>
            </a:r>
            <a:r>
              <a:rPr b="1" lang="en-GB" sz="3200" spc="-1" strike="noStrike">
                <a:solidFill>
                  <a:srgbClr val="000000"/>
                </a:solidFill>
                <a:latin typeface="Impact"/>
              </a:rPr>
              <a:t> </a:t>
            </a:r>
            <a:br>
              <a:rPr sz="3200"/>
            </a:b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rtmund knowledge clu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09:22:33Z</dcterms:created>
  <dc:creator>Lars Tata</dc:creator>
  <dc:description/>
  <dc:language>en-US</dc:language>
  <cp:lastModifiedBy>Tata</cp:lastModifiedBy>
  <dcterms:modified xsi:type="dcterms:W3CDTF">2004-09-23T20:02:18Z</dcterms:modified>
  <cp:revision>43</cp:revision>
  <dc:subject>Structural Change</dc:subject>
  <dc:title>From Steel Town to E-City</dc:title>
</cp:coreProperties>
</file>